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040-B983-4DE3-9A37-88B92E81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4AB-6BEA-49BD-8A18-BAD58EC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49E-5775-4027-B57C-AB90FADC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861-8578-4DD1-AB0F-637D8FCE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8F6-32EB-4907-9324-F15A22E5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25D-836B-40D3-95B4-755800E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159-A4F8-44E0-BCE6-D743802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BCD-527F-4536-B5FD-A4FC625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4F8-89CC-4E44-9E61-661B3EB2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1F0-1FF0-44A9-9DB7-227F391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0A2-F090-4A22-BD20-9DCB3C4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0A4-A0E7-4A69-9190-ADB747C3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B589-817E-44EA-B129-86E5D127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830592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ожения к разработке концепции развития ГА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ект подготовлен комиссией в состав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.В. Бобылев, Р.В.Юдин, З.М.Малк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апреля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0880"/>
            <a:ext cx="88390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зовые принципы Концепции развития ГАО 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ние в Санкт-Петербург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Междисциплинарного научного центр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основе международного брен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Пулковская обсерватория»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формированного на протяжении почти 2-х веков достижениями крупнейшего многопрофильного астрономического учреждения России – Главной  (Пулковской) астрономической обсерваторией РАН (ГАО РАН)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«Пулковская обсерватория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как единый проект, обладает одновременным сочетанием в себе следующих уникальных парамет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учно-исследовательск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й компл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ультурно-просветительский компл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рико-архитектурный ансам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мориальный компл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дово-парковый и ландшафтный ансам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Зона для культурно-массовых 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цепция состоит в реализации проекта комплексного развития и реконструкции интеллектуальных, имущественных и территориальных ресурсов ГАО РАН и направлена на повышение эффективности и расширение спектра научных исследований, междисциплинарную кооперацию институтов РАН и оптимизацию их взаимодействия с федеральными и муниципальными органами управления. Она предполагает следующие первоочередные направления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тие научного потенциала ГАО РАН в направлении дистанционных и конкурсных наблюдений на внешних наблюдательных базах ГАО РАН и других обсерваторий, в том числе космического ба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конструкцию наблюдательной площадки обсерватории, расположенной в Санкт-Петербурге, в научно-образовательную базу для учебной практики студентов и аспирантов, просветительской деятельности среди населения города и продолжения наблюдений для решения научных задач в области физики Солнца и позиционной астрометр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тимизацию использования территории и защитной парковой зоны обсерватории для расширения спектра научных исследований, развития инфраструктуры и качества жизни в жилом поселке в плане его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армоничной интегр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мегаполи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вершенствование мемориальной деятельности, направленной на сохранение памяти героев, защитивших город в годы Гражданской и Великой Отечественной войны, и выдающихся деятелей отечественной науки, трудами которых российская астрономия приобрела мировую извес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обым аспектом концепции является сохранение уникального паркового ансамбля Пулковских высот и продолжение богатых традиций его бережного использования, направленных на создание благоприятных условий для творческой деятельности сотрудников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88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редложения зав лабораторией фотометрии звезд и галактик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А.А. Арха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Развитие наблюдательных б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1.ГАС ГАО  под Кисловодс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2.Кампо Императоре в Итал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3.Боливийская обсерва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 Black"/>
              </a:rPr>
              <a:t>1. ГАС ГАО  под Кисловодском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 Разработать план развития Горной станции, при этом учесть перевод телескопа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X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200 в режим дистанционного управления и установка его на ГАС ГАО. Сооружение нового павильона для телескопа.  Затраты около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3 млн.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 Black"/>
              </a:rPr>
              <a:t>Кампо Имераторе.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 Согласовать и подписать новое Соглашение, предусматривающее финансирование с российской стороны (примерно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0 000 евро в год – 0.6 млн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) на содержание телескопа АЗТ-24 и наблюдательной станции на долевой основе. Выделение целевого финансирования на ремонт и модернизацию телескопа АЗТ-24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5-18 млн.рублей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 Выделение средств на командировки в Италию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0.6 млн.рублей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в год. Завершение мероприятий по обеспечению режима дистанционных наблю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 Black"/>
              </a:rPr>
              <a:t>Боливийская обсерватория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 Реализация мероприятий по возобновлению наблюдений в Южном полушарии, одобренных в ФАНО в ноябре 2015 г.  Предполагаемая сумма затрат 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11 млн.рублей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о на сумму 32 млн.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Мероприятия в Пулк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1. Безусловное сохранение главного здания как Астрономической обсерватории, в котором должны размещаться сотрудники научных подразделений, администрация, библиотека, музей, архи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2. Сохранение в рабочем состоянии основных инструментов, 26” рефрактор, горизонтальный солнечный телескоп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3. Провести обследование всех павильонов, башен, построек на территории научной площадки на предмет их технического состояния, принадлежности, использования и эффективности, научной и исторической ценности. Провести анализ целесообразности сохранения объектов, их ремонта и возможности использования под други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4. Произвести капитальный ремонт здания Астрофизической лаборатории с целью восстановления его исторического облика. Восстановить научные приборы и установки, представляющие научный и исторический интерес: вакуумный дифракционный спектрограф,  целостатная установка, круг Роуланда,  вакуумная многоходовая 100-метровая кювета ВК-100. Перечисленные инструменты и установки в перспективе могут быть использованы, кроме научных целей, для демонстр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676520"/>
            <a:ext cx="855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</a:rPr>
              <a:t>Предложения зав отделом позиционной астрометрии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А.В. Девятк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1. Реализация «Проекта Пулковской обсерватории по созданию наземного пункта астрономических наблюдений Южном полушарии на базе российского телескопа АЗТ-16 в Чили для решения задач  астероидно-кометной опасности». Совместно с МЧС и другими заинтересованными организациями. Заинтересованные организации и потребители: РАН, МЧС, МО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тоимость реализации проекта – около 75 миллионов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2. Создание мобильных зенит-телескопов на базе ФВК, АЗТ-7 и 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GPS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 приемников для исследования отклонений отвесных линий. Заинтересованные организации и потребители: РАН, МЧС, МО, Газпром, нефтяные компании, геодезические предприятия, строительные компани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9154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редложения зам директора по научной работ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Ю.А. Наговицы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Выдержк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из КОНЦЕПЦ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мплексного развития ГАО РАН на период 2017-2025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учный руководитель: 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бочая группа: Администрация Президента РФ, ФАНО, руководство СПб, ГАО РАН (м.б.КГИОП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Основные сведения об учреждении, реализующем Програм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. Краткий исторический очер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лковская обсерватория была задумана в качестве центрального астрономического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…………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Базовые основ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.1. Документы федерального законодательства РФ и 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) Постановление Совета народных комиссаров марта 194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) Указ Президента РФ N 1487 «Об особо ценных объект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) Указ о включении ГАО РАН в Свод особо ценных объекто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.2. Программные документы международных организаций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ОН, Unesco,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кумент о включении ГАО РАН в список ЮНЕС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3. Финансиров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илучшая финансовая форма решения общественно значимых задач на взаимовыгодных условиях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астно-государствен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средств бюджета на финансирование Программы планируется привлеч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§ средства от приносящей доход деятельности ГА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§ средства Санкт-Петербургского благотворительного общественного фонда развития ГА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§ средства российских и международных организаций, фондов и объеди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4. Перечень «пилотных» проектов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ключение библиотеки, находящейся на территории ГАО и входящей в структуру БАН, в государственные программы по развитию библиотечного дела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Строительство служебного жилья на 40-50 к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Создание научно-просветительного цент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33520"/>
            <a:ext cx="8991720" cy="60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ТВЕРЖДЕНО     Указом Президента     Российской Федерации     от 30 ноября 1992 г.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148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ПОЛОЖЕНИЕ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 особо ценных объектах культурного наследия народов 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 редакции указов Президента Российской Федерации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 17.12.98 г. N 1595; от 26.11.2001 г. N 1360;    от 25.02.2003 г. N 25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Внесенные  в  Государственный  свод  особо  ценные  объекты являются исключительно федеральной собственностью.  Изменение формы собственности  указанных  объектов  либо  их  перепрофилирование не допускаетс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……………………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Финансирование особо  ценных  объектов  (в  том  числе  их расходов на комплектование фондов, развитие материально-технической базы,  капитальное  строительство,  реконструкцию  и   реставрацию, реализацию  социальных   программ   для   трудовых   коллективов, эксплуатационных   расходов,   расходов   на   содержание   охраны) осуществляется  за  счет  ассигнований  из республиканского бюджета Российской   Федерации   и   выделяется   отдельной  строкой  в республиканском  бюджете  Российской  Федерации,  а  также  за счет ассигнований  из  соответствующих  бюджетов  республик  в   составе Российской Федерации,  автономной  области,  автономных  округов, краев,  областей,  городов Москвы и Санкт-Петербурга  и  выделяется отдельной строкой в соответствующих бюджетах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тупление финансовых средств из  других  источников,  в  том числе  дополнительных    доходов       от  собственной творческо-производственной  деятельности,  добровольных  вкладов  и пожертвований  физических  и юридических лиц не является основанием для уменьшения объемов бюджетного финанс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808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иссию подали предложения следующие сотруд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латов А.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создания синоптического комплекса  для наблюдения и               прогноза солнечной активности ГАС ГАО РАН, создание национальной или   глобальной  наблюдательной сети солнечной ак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щина Е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создания Центра Коллективного 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нкурс Минобрнауки России с максимальным разме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сидии – 150 млн. руб. на 2017-2018 г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а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развития баз ГАС ГАО, в Италии, Боливии и Пул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обходимые затраты всего 32 млн ру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вяткин А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создания базы в Чили для решения задач астероидно-     кометной опасности  (стоимость реализации проекта около 75 млн руб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шков В.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едложения по обустройству музея и научной площадки Г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идова  Т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развития экскурсионной деятельности в Пул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умилов А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едложения к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 молодых ученых ГА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ажные дополнения к проекту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м В.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ект реставрации павильона “Морская башня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овицын Ю.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комплексного развития ГАО на период 2017-2025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анов А.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казы президента, переписка с чиновни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азовые принципы, старый вариант проекта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ект концепции по сохранению и развитию Пулковской обсерватории (ГАО РАН) как научной астрономической организации Российской академии наук  и особо ценного объекта культурного наследия народ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лковская обсерватория (ГАО РАН) – старейшее (177 лет со дня основания) в стране многопрофильное астрономическое научное учреждение, производящее как собственные астрономические наблюдения, так и  использующее астрономические наблюдения других обсерваторий, как наземных, так и космических, для выполнения исследований и теоретических обобщений в области астрометрии, небесной механики, астрофизики, звездной астрономии, радиоастрономии. В штате обсерватории состоят 2 члена-корреспондента РАН, 30 докторов наук и 60 кандидатов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научной организации, Пулковская обсерватория, одновременно является особо ценным объектом культурного наследия народов Российской Федерации (Указ Президента Российской Федерации № 275 от 2 апреля 1997 г.) и включена в  список Всемирного наследия ЮНЕСКО как охраняемый объект с названием «Ансамбль Пулковской обсерватории».  При этом, среди более 70 особо ценных объектов культурного наследия народов Российской Федерации всего 2, включая ГАО РАН, представляют собой научные учреждения, выполняющие фундаментальные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и создании концепции развития  Пулковской обсерватории необходимо в первую очередь руководствоваться  УКАЗОМ ПРЕЗИДЕНТА РОССИЙСКОЙ ФЕДЕРАЦИИ «Об особо ценных объектах культурного наследия народов Российской Федерации» от 30 ноября 1992 года, N 14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Согласно п. 6 данного Указа изменение формы собственности  Пулковской обсерватории  либо  ее 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перепрофилирование не допускается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Согласно п.7 правительство  Российской  Федерации обеспечивает правовые, финансовые и материальные  условия,  необходимые  для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сохранности, целостности  и  неотчуждаемости имуществ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Пулковской обсерватории.*Согласно п.8 имущество,  здания и сооружения Пулковской обсерватории как особо ценного объекта находя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в оперативном  управлении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Пулковской обсерватории.*Согласно п.9 Пулковская обсерватори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есет ответственность за сохранность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объектов  Пулковской обсерватории и их надлежащее использование.*Согласно п.10 финансирование Пулковской обсерватории как особо ценного объекта  (в  том  числе  ее расходов на комплектование фондов, развитие материально-технической базы,  капитальное  строительство и т.п.) должно осуществляться  за  счет  ассигнований  из  бюджета Российской   Федерации   и  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выделяется   отдельной    строк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в  бюджете  Российской  Федерации,  а  также  за счет ассигнований  из  бюджетов  г.Санкт-Петербурга  и 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выделяться отдельной строк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в соответствующих бюджетах. Поступление финансовых средств из  других  источников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е является основанием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для уменьшения объемов бюджетного финансирования.*Согласно п.11 Пулковская  в  соответствии  с  законодательством  Российской Федерации самостоятельно определяют структуру,  штаты, численность, формы и размеры оплаты труда работников  в  пределах  ассигнований, выделяемых  им  на  эти цели из бюджета Российской Федерац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90720"/>
            <a:ext cx="8763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ечение длительного времени, однако, такое дополнительное финансирование ни со стороны правительства РФ, ни со стороны г.Санкт-Петербург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проводилось. В результате, ГАО РАН была вынуждена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в ущерб выполнению научных исследов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тратить значительные финансовые ресурсы на сохранение историко-архитектурного, садово-паркового и ландшафтного ансамбля и мемориального комп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ая цель разработки Концеп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звитие ГАО РАН как многопрофильного астрономического учреждения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дущего фундаментальные и прикладные исследования как по основным традиционным направлениям развития современной астрономической науки, так и на стыке этих направлений, а также на стыке астрономии и смежных нау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цепция  имеет целью реализацию проекта поэтапного развития интеллектуальных и инструментальных ресурсов ГАО РАН, и, в первую очередь,  направлена на повышение эффективности научных исследований в приоритетных направлениях современной астрономии с учетом современных мировых тенденций в развитии мировых наземных и космических астрономических наблюдений и потребностей прикладных задач при возможном частичном расширении их спектра с учетом современных тенденций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ющиеся в ГАО РАН материально-техническая и инструментальная база, а также научный и кадровый потенциал – основное отличие и преимущество перед другими близкопрофильными институтами в системе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ледующих пунктах перечисляются базовые принципы Концепции развития ГАО РАН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. Научно-исследовательского и наблюдательного астрономического учре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. Культурно-просветительского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. Научно-образовательного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. Историко-архитектурного ансамб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. Мемориаль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. Садово-паркового и ландшафтного ансамб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914400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.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развития Пулковской обсерватории как научной и просветительской астрономической организации с огромным потенциалом и для ее сохранения как особо ценного объекта культурного наследия народов РФ для будущих поколений необходимо при поддержке попечительского совета в первую очередь добиться надлежащего дополнительног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ирования отдельной строкой из бюджета РФ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из бюджета Санкт-Петербурга в соответствии с Указом Президент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учетом  многопрофильности учреждения в области астрономии, Пулковская обсерватория продолжит выполнять традиционные исследования по следующим направлениям: наземная и космическая астрометрия с использованием как инструментов на Пулковской площадке, так и вне, астрофизика, звездная астрономия, физика Солнца и солнечно-земные связи, небесная механика и планетные исследования, радиоастрономия, астрономическое приборостроение. При этом, приоритетными будут: исследования (фундаментальные и  прикладные), в которых ГАО РАН является (или потенциально может стать) лидером в России и/или в мире; выделение потенциальных направлений прикладных работ и идентификация их потенциальных заказчиков. Внедрение в существующие прикладные отечественные программы и проекты с полноценным в них участием. Участие в программах, которые будут приносить достаточный доход для подпитки выполняемых фундаментальных исследований; исследования, лежащие в стыковых областях астрономических направлений; исследования, выполняемые в рамках международных программ и коопераций с зарубежными коллегами, как на наблюдательных инструментах ГАО РАН, так и на международных инструмен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этапное развитие уже существующих внешних наблюдательных баз (1-й этап: ГАС ГАО РАН, 2-й этап: российский телескоп в Италии, 3-й этап:  телескопы в Боливии и 4-й этап:  телескоп в Чили  - порядок этапов можно обсуждать) с опережающим созданием на территории ГАО РАН мощного вычислительного центра, а также Центра коллективного пользования. Вычислительный центр необходим для управления, анализа и обработки данных, получаемых, в том числе, с использованием дистанционных наблюдений, по сети Интернет и выделенным каналам связи, как с удаленных внешних баз, так и с телескопов находящихся на площадке ГАО РАН. При выделении целевого финансирования со стороны правительства РФ, строительство крупного (с диаметром главного зеркала порядка или более 4м) и ряда меньших (с диаметром главного зеркала порядка 1м) телескопов на одной из внешних баз ГАО РАН, и создание на их базе коллективной наблюдательной астрономической баз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дернизация и переоснащение инструментов, используемых в настоящее время в Пулкове для продолжения наблюдений и решения научных задач в области физики Солнца и позиционной астромет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нструкция и модернизация неиспользуемых в настоящее время павильонов на научной площадке ГАО РАН, установка  в них дополнительно нескольких малых телескопов и их оснащение современной аппаратурой с целью их использования для учебной практики студентов и аспирантов, просветительской деятельности среди населения города и экскурсионных наблюдений. В учебных целях современная аппаратура должна, по возможности, обеспечивать  астрономические наблюдения в широком спектральном диапазоне (оптические, инфракрасные и радио- наблюдения). Возможно создание "Народной любительской обсерватории" в кооперации с Планетарием, ГДТЮ.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4582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.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оздание научно-образовательного центра на основе соответствующих структур ГАО РАН, профильных кафедр СПбУ, ГУАП и других вузов СПб с целью обеспечения притока молодых кадров и воспитания кадров высшей квалификации (кандидатов и докторов наук). Создание информационно-библиотечного сектора ГАО РАН, который во взаимодействии с отделом БАН в ГАО РАН должен обеспечить доступ научных сотрудников ко всем основным отечественным и мировым издательским ресурсам и базам данных, включая Web of Science, Scopus и основные научные издательства, а также наукометрическое обслуживание научных подразде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осстановление приборостроительной базы, включая КБ и производство, достаточной для решения задач ГАО РАН и имеющей дополнительный потенциал для выполнения внешних заказов. Создание на этой базе кооперации с другими организациями при ведущей роли ГАО 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Реконструкция имеющихся строений, в том числе модернизация здания гостиницы ГАО до уровня современного гостиничного комплекса. Разработка стратегии прибыльного использования данных стро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9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Развитие музея ГАО с учетом современных тенденций музейного дела и опыта других обсерваторий при совмещении в единой организационной структуре в составе обсерватории (!) музейную и лекционную (просветительскую) дея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10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овершенствование мемориальной деятельности, направленной на сохранение памяти героев, защитивших город в годы Гражданской и Великой Отечественной войны, и выдающихся деятелей отечественной науки, трудами которых российская астрономия приобрела мировую извес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1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собым аспектом концепции является сохранение уникального паркового ансамбля Пулковских высот и продолжение богатых традиций его бережного использования, направленных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научной работы обсерватории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1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лучшение взаимодействие с ФАНО и РАН, а также с Законодательным собранием и Администрацией Санкт-Петербурга по защите 3-километровой охранной зоны Пулковской обсерватории и разработке планов ее развития в интересах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хранения условий для астрономических наблюдений в ГАО РАН и оптимального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я этой территории в интересах города с учетом имеющихся ограничений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регламентов соглас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8991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 АПРЕЛЯ, 16:3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rey Tlatov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у: Vadim Bobylev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[2]: Г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равствуйте, Вадим Вадимович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ним из пунктов  концепции ГАО является развитие ГАС. Но состояние ГАС  довольно плачевное. Самое главное - у нас большие проблемы с землей. Зачем-то прежней дирекцией ГАО были розданы  господствующие вершины (ГАИШ и ИНАСАН). В общем-то прямым конкурентам. Сейчас осталось поле, где ставить телескопы странно (хотя ниже показано, что и его нет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же в процессе переоформления после этого нашей земли документы не были доставлены в регистрационную палату и сейчас, на той земле что мы считали исконно своей раздаются и регистрируются участки (на декабрь 17-го таковых было 6).  Была попытка подать протест в суд. Но к намеченному  21 апреля в суд ГАО не представила документы. На мой взгляд,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йчас земли  ГАС ГАО  на горе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Ее придется  полностью оформлять, чуть ли ни с чистого 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торая неприятность в том, что сейчас ГАС окружена уже 3-мя обсерваториями (ГАИШ, Росскосмос, ИНАСАН). Материальная база ГАС значительно хуже у вышеперечисленных. Поэтому, очевидно, что развитие будет идти в жесткой конкуренции, прежде всего за специали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считаю, что эти соображения должны быть доведены до УС. Думаю нужен реальный взгляд на ситуацию, а то сейчас  развитие ГАС представляется чуть ли не как основой выход по сохранению обсерватории. Но ГАС и удержать-то не получается. И заниматься этим никто не собирается.  Я много раз предлагал обсудить это на дирекции и вынести какие-либо решения на У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уважением, Андр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1360" y="2666880"/>
            <a:ext cx="8702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едеральное государственное бюджетное учреждение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ая (Пулковская) астрономическая обсерва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йской академии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лковская обсерватория основана 19 августа 183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именование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едеральное государственное бюджетное учреждение науки Главная (Пулковская) астрономическая обсерватория Российской академии наук (ГАО 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, 196140,  Санкт-Петербург, Пулковское шоссе, д.65, кор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иректор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 физ.-мат. наук Ихсанов Назар Роберт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научных исследований и штат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обсерватории охватывает практически все направления фундаментальных исследований современной астрономии, так что ГАО РАН является уникальным учреждением не только в России, но и в мире, – по многопрофильности в области астрономии. В штате обсерватории состоят 2 члена-корреспондента РАН, 30 докторов наук и 60 кандидатов наук. ГАО РАН имеет филиал – Кисловодскую горную астрономическую станцию ГАС ГАО РАН  (открытую в 1948 г.). Телескопы ГАО РАН установлены в Италии, Боливии, Чили. Ряд бывших наблюдательных станций и отделений Пулковской обсерватории после начала 1990-х гг. стали национальными обсерваториями стран С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улковская обсерватория является особо ценным объектом культурного наследия народов Российской Федерации (Указ Президента Российской Федерации № 275 от 2 апреля 1997 г.) Обсерватория номинирована в списке Всемирного наследия ЮНЕСКО 1990 г. и включена в перечень охраняемых объектов под п. 8 как «Ансамбль Пулковской обсерватор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rcRect l="0" t="0" r="0" b="16309"/>
          <a:stretch/>
        </p:blipFill>
        <p:spPr>
          <a:xfrm>
            <a:off x="2666880" y="609480"/>
            <a:ext cx="3886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3T09:04:18Z</dcterms:created>
  <dc:creator>Vadim V. Bob</dc:creator>
  <dc:description/>
  <dc:language>en-US</dc:language>
  <cp:lastModifiedBy>802304</cp:lastModifiedBy>
  <dcterms:modified xsi:type="dcterms:W3CDTF">2017-04-28T06:22:40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